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888F-329F-4595-BF78-1788A5BA0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EC58-F94B-46EA-B635-7D886BDBE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62BD-662A-4F21-B377-82D544D6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297-6539-4AF1-A70A-B2487B69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57E-B45D-4D4E-9580-EABF3E0E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49F-5B2E-4D4D-93FA-CFB27C23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168-BD3A-4DC8-85F2-C7878032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44D-FE22-4E06-8262-4AE9CAD9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B55-D6AC-4E0B-AF04-41155CB5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87D-F3AE-4D00-AF93-A104FB33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73C-66E5-4763-801B-1C9F6632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02C-FD9E-4F69-A6BD-367A0752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4DF-6F8B-435D-BA49-581F1722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569-069D-4AB9-9EB2-50D3817E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D59F-3374-49BC-9BCA-DB13F4A1F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hahmina Ham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hahmina Ham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hahmina Hami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447920" y="1752480"/>
            <a:ext cx="563868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Buenos días mis amigas.  Que haces¿ Donde estas¿  Como e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5720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2700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767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429000"/>
            <a:ext cx="17524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Rhahmina. Vivo en NY. Yo tengo catorce años.  Yo soy simpática, bonita y divertidas. Yo tengo tres  hermanos, son fastidioso.  Tenemos dos inteligente pájaros. Adiós amigas!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60480" y="4876920"/>
            <a:ext cx="568080" cy="1085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743040" y="4876920"/>
            <a:ext cx="54288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100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950000"/>
            <a:ext cx="43956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Usted es simpática. Eres mii 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0040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a, Rhahmina!  Te amo amigo.   Yo estoy en la ciuda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 tiene una fiesta mañana. ¿Tu quieres venir  a la fiesta? Nuestr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fiesta será divertida.  _x0016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, Rhahmina!  Espero el bus.  Estoy aburri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7105680" y="4829040"/>
            <a:ext cx="1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9:21Z</dcterms:modified>
  <cp:revision>112</cp:revision>
  <dc:subject/>
  <dc:title>Profile</dc:title>
</cp:coreProperties>
</file>